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E86-94A2-4525-8B3D-776F552A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58C-2CB6-44A9-AB6B-244616A3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ED7-0751-47E0-A5AB-61412082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EA4-5B4F-4B3D-8A2B-17C381C1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1496-49B3-4072-8312-75C68D28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AD9B-A423-4F3E-B2D8-543B1532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34BC-4158-4759-BB26-862FFAFB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A9A7-C7B8-40C4-A886-7F02EBA7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BADC-9EFF-42CD-B41B-C807FAFE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7A23-2F1C-488A-B41E-0595EB95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A906-9877-4360-9C5F-2BDAA874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883-2361-4AFA-80C3-55303A1A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AF21-901F-4355-BEF7-57D33E48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7820-20F5-4050-8EC7-CC674B97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E0D5-ACC2-48F4-8077-14890822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AAE0-A03C-4E97-B6E9-1584E1C9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9B53-4FD2-4C9E-8513-7A85F419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F7343-B707-4BB5-8D53-BA3D0BF0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7BB1-1932-4E0B-AF9B-5F922533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92174-CDFD-424F-9AB4-9054EB09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B998-86D7-4BC8-94D3-D139DAB5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9D03A-E6E6-4FF6-A826-F3D71C13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A8A-0E02-4FE2-A77C-D8134CD5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6DD64-8695-4484-990E-B4473A72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1A10-7B9F-43A8-8849-24A1439B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2E1B-FD1E-49BF-8512-D4DCE077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9A0C-4D71-4FC6-86C7-32A21EFD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514D5-A784-4A9F-BD1F-52871DB1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81B3E-A1FC-42D0-B293-6A82D62C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9C3D2-ABB4-4793-B22D-88749AA4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93F-3082-4087-9B97-A2A25C0E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7B5-0D6A-4B64-A1DA-F2BB962F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719-3DAB-4122-AC7C-E0060567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B08-E78C-4A4E-8B78-3B39E00B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AE0-2184-47C8-93CE-C547D9E7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8E3-B2AD-414F-BEC2-40E874A1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2642-E985-4821-9735-9955F08F728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AAC1-6C58-466B-81AC-A476DBC250D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0112-1543-44B3-9841-7778D8052FCA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8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anna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closest planet to the sun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eighth largest planet.</a:t>
            </a:r>
            <a:r>
              <a:rPr b="0" lang="en-US" sz="2600" spc="-1" strike="noStrike">
                <a:solidFill>
                  <a:srgbClr val="f2f2f2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Book Antiqua"/>
              </a:rPr>
              <a:t>There is no life there because it is so ho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Book Antiqua"/>
              </a:rPr>
              <a:t>On one side of mars its so hot led could melt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http:/planetfacts.or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7" name="Content Placeholder 1" descr=""/>
          <p:cNvPicPr/>
          <p:nvPr/>
        </p:nvPicPr>
        <p:blipFill>
          <a:blip r:embed="rId2"/>
          <a:stretch/>
        </p:blipFill>
        <p:spPr>
          <a:xfrm>
            <a:off x="6400800" y="609480"/>
            <a:ext cx="21337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Venus is the same size as Earth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Venus is a really small plane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Venus’s atmosphere is mostly made of carbon dioxid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Venus is red http:/planetfacts.or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Content Placeholder 1" descr=""/>
          <p:cNvPicPr/>
          <p:nvPr/>
        </p:nvPicPr>
        <p:blipFill>
          <a:blip r:embed="rId2"/>
          <a:stretch/>
        </p:blipFill>
        <p:spPr>
          <a:xfrm>
            <a:off x="6426360" y="304920"/>
            <a:ext cx="233676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ur home plane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t is the only planet that has life on i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oceans cover about seventy percent of Earths surface. :/planetfacts.or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Content Placeholder 2" descr=""/>
          <p:cNvPicPr/>
          <p:nvPr/>
        </p:nvPicPr>
        <p:blipFill>
          <a:blip r:embed="rId2"/>
          <a:stretch/>
        </p:blipFill>
        <p:spPr>
          <a:xfrm>
            <a:off x="0" y="0"/>
            <a:ext cx="233676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cientists have just found that water is on Mar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diameter is six point five kilometer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ars has two small satellite's named Phobus and Deimos. :/planetfacts.org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6" name="Content Placeholder 1" descr=""/>
          <p:cNvPicPr/>
          <p:nvPr/>
        </p:nvPicPr>
        <p:blipFill>
          <a:blip r:embed="rId2"/>
          <a:stretch/>
        </p:blipFill>
        <p:spPr>
          <a:xfrm>
            <a:off x="6934320" y="76320"/>
            <a:ext cx="2117520" cy="158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Jupiter is the largest planet the diameter is 139,822 kilometers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orbital speed is 13.1 seconds/kilometer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volume of Jupiter can fit 1,300 Earths on it. :/httpplanetfacts.org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9" name="Content Placeholder 1" descr=""/>
          <p:cNvPicPr/>
          <p:nvPr/>
        </p:nvPicPr>
        <p:blipFill>
          <a:blip r:embed="rId2"/>
          <a:stretch/>
        </p:blipFill>
        <p:spPr>
          <a:xfrm>
            <a:off x="7112160" y="0"/>
            <a:ext cx="203184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aturn is the sixth planet from the sun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aturn is also the second largest plane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ne day on Saturn is 10 hours and 14 minutes in Earth days. :/httpplanetfacts.or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2" name="Content Placeholder 2" descr=""/>
          <p:cNvPicPr/>
          <p:nvPr/>
        </p:nvPicPr>
        <p:blipFill>
          <a:blip r:embed="rId2"/>
          <a:stretch/>
        </p:blipFill>
        <p:spPr>
          <a:xfrm>
            <a:off x="0" y="25560"/>
            <a:ext cx="2209680" cy="1657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ctangle 2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Uranus is the third largest planet in the Solar System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is planet is the second least dense after Saturn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Uranus spins east to west. :/httpplanetfacts.or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5" name="Content Placeholder 1" descr=""/>
          <p:cNvPicPr/>
          <p:nvPr/>
        </p:nvPicPr>
        <p:blipFill>
          <a:blip r:embed="rId2"/>
          <a:stretch/>
        </p:blipFill>
        <p:spPr>
          <a:xfrm>
            <a:off x="7162920" y="0"/>
            <a:ext cx="2009520" cy="1508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eptune is the fourth largest planet in the Solar System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ne day in Neptune is equal to 16 hours on Earth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eptune has never been capable of being seen by naked eye. :/httpplanetfacts.or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Content Placeholder 3" descr=""/>
          <p:cNvPicPr/>
          <p:nvPr/>
        </p:nvPicPr>
        <p:blipFill>
          <a:blip r:embed="rId2"/>
          <a:stretch/>
        </p:blipFill>
        <p:spPr>
          <a:xfrm>
            <a:off x="7238880" y="-64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20:22:50Z</dcterms:created>
  <dc:creator>Rachel B. Bunin</dc:creator>
  <dc:description/>
  <dc:language>en-US</dc:language>
  <cp:lastModifiedBy>Savannah Speckin</cp:lastModifiedBy>
  <dcterms:modified xsi:type="dcterms:W3CDTF">2013-10-29T13:00:01Z</dcterms:modified>
  <cp:revision>9</cp:revision>
  <dc:subject/>
  <dc:title>The Planets</dc:title>
</cp:coreProperties>
</file>